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D8B-6C16-4CCF-920F-AF5D7C91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7F4-39B4-4508-B81F-60EF206A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350-1459-4187-9AE1-F07CC41C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252-A53F-4FC7-99D9-179FABFE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833D-56D9-41C8-99A2-A4B6E297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6240-5820-45CD-8F44-51ED087D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E937-F957-450E-A49B-C6118CCC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25DC-609C-492B-B7BF-51D21095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0031-9665-4FFE-BA31-602974C3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F395-4064-415A-97D5-E0F58A4E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10B0-C14B-49CB-B4A1-327F64E8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9AF-3515-430E-A485-25F3D1DB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385D-4D21-40B6-ADA1-D58F4415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AD69-35C9-47A8-85CC-4366C119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DA59-BAA9-4098-9476-435ABAC3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F6D4-9B12-407C-8823-3060C7F3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D29E-049C-4024-8762-B05251A2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508-6A05-4862-A2D8-ABB69C04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765-DC73-440E-94AC-9541C9D1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00D-0E2B-4030-B1EE-8275E8C9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838-FA56-4FA7-B9FD-F006BD78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69D-C036-4A15-A955-DF681522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962-96B1-42CA-BE03-E8FC9A21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87F-3E18-485A-8D50-C6B2A5DD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A573-DFF5-4A73-93FF-C6D73EBFD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E30D-10B9-4E94-99BA-041CA115E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Welcome to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!</a:t>
            </a:r>
            <a:br>
              <a:rPr sz="76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8954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Mr. Fu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489240" cy="1067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48440" y="1676520"/>
            <a:ext cx="2095560" cy="1047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57200" y="2290680"/>
            <a:ext cx="7848720" cy="4567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-152280" y="3124080"/>
            <a:ext cx="9144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73152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4038480" y="3809880"/>
            <a:ext cx="3581640" cy="210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57200" y="28954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ease Not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are usually a hint to you will see on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often contain test questions or diagrams that you will most likely come across during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way to get a good grade in class is to complete note summaries and bellwork!!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Labs and Activit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and Activities are worth 3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notes, we will usually spend between 30 and 40 minutes on a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or Activities are due either the day they are assigned or the day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take lab safety very seri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goofing around in lab will receive a zero on the assignment for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abusing school property and lab materials will also receive a zero on the assignment for that da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ere absent for a lab, come see about a makeup assig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s should always be written in complete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 Write-U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is the purpose of this lab? Or, Why I am doing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pothes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rediction of what you expect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 (an educated guess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ke sure you always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a hypothesis!!!!!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equipment or materials will I need to complete the la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dure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ken to achieve a desired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/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data or information did I ob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Questions and Conclu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did I learn? Did I perform the lab correctly? If not, why not? What went wrong? Each lab will have questions. Be sure every question is answered correc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ANSWER IN COMPLETE SENTENCES!!!!!!!!!!!!!!!!!!!!!!!!!!!!!!!!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904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Tests and Quizz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s and Quizzes are worth 5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st thing you can do in this class is miss a test or quiz and not make i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up a test or Retake a test you will need to visit: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ttp://quizstar.4teachers.org/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gister for my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ademic Integ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caught cheating, I will take the assignment from you and the work will count as a zero in my grad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ing other peoples work is a form of Plagiarism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257800" y="3514680"/>
            <a:ext cx="243828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v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n effort to listen and learn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will almost always be questions that accompany the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vie will often be followed by a quiz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: tests and quizzes are worth 50% of your grad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are 4 easy things you will need to do by the end of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assignment you’re working on righ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Quiz star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take online tes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Homelink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check your grade onl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ake your 1st quiz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1494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If you are absent…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lass is divided up in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in part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bs or Activ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sts and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ever absent and need to make up classwork, labs, or tests; please go to my class website: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ttp://wikifuller.wikispaces.com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Classwor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is worth 10% of your gr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consists of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nell notes, Test notes, and Bell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is due every Friday unless otherwise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Bellwork is worth 2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eks Worth of Bellwork (5 days) is worth 100 poi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can be made up online at my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ell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l Notes are due on the day of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Cornell Notes is worth 5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Unit we will have 3 or 4 days of no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3 days of notes is worth 150 points and 4 days of notes is worth 200 points!!!!!!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69080" y="0"/>
            <a:ext cx="1474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What side do I write the question 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estions always go on the left side and the answers always go on the righ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9938000">
            <a:off x="1445760" y="2421000"/>
            <a:ext cx="68580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60"/>
                            </p:stCondLst>
                            <p:childTnLst>
                              <p:par>
                                <p:cTn id="18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6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2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2743200"/>
            <a:ext cx="2361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0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548640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19051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2193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Quick writes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are a dail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question worth 5 point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That you answer in 1-2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Sentences. Quickwrit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designed to g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you thinking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4290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Main Section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of you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notes are worth 20 poi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8006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Summaries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wort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20 points.  Summar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contain diagrams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important inform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which may be on the test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st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notes that you can use on the test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ho complete their test notes usually receive an A or B on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will be passed out 1-2 days before the test and they are to be completed as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due on the day of the test along with Cornel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42:41Z</dcterms:created>
  <dc:creator>jfuller</dc:creator>
  <dc:description/>
  <dc:language>en-US</dc:language>
  <cp:lastModifiedBy>jfuller</cp:lastModifiedBy>
  <dcterms:modified xsi:type="dcterms:W3CDTF">2012-01-09T23:54:24Z</dcterms:modified>
  <cp:revision>9</cp:revision>
  <dc:subject/>
  <dc:title>Slide 1</dc:title>
</cp:coreProperties>
</file>